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88E7-CE28-43EC-AF7E-930A3373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E54-330D-4505-A277-CC2748DE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22C-27FF-4BCF-A003-A9D19394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8EB-019F-4732-A45B-7F0BF8BB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C9F-8A01-442E-9E45-63E79C5C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204F-FB2D-400A-8950-4DA1047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55B-D87F-4867-B3FA-2E9A9A2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FBB-94F3-46D1-8831-77092786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2EF9-DCDA-4D13-9467-22FEA19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7E6-ABE0-40DD-9135-3BAB4C7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B6F7-5D18-430B-9773-92CA1D8D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684-125F-4B5A-A1A3-8DEC4621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6D42F5-338E-4D4B-98EC-8AF7B593307D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0" y="0"/>
            <a:ext cx="91436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لأم شغلت الغسالة اليوم عندها عمل كثير . يجب أن تكنس بمكنسة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كهربائية وتنهي الكو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1071720"/>
            <a:ext cx="9143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في البداية كان الناس يقولون: هذا حسن سننام مدة أطول . ولكن لم يستطيعوا البقاء في السرير دائما. يجب عمل الطعام . الأهتمام بالحيوانات الذهاب الى العمل . في الليل هذا كله ليس سهلا يصطدمون في كل شيء ثم لا يستطيعون البقاء في الظلام يجب عمل شي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0" y="285840"/>
            <a:ext cx="914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حينئذ قال بطرس الكبير :“ كل من يريد يأتي معي لنبحث عن الضؤ. أنا آتي معك , وأنا أيضا... وكل سكان القرية ساروا على الطريق وهم ممسكون بالأيدي لئلا يقعو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1071360" y="0"/>
            <a:ext cx="80722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نوا يمشون في الليل لأن القمر كان يضيء طريقهم. وعندما تصبح الظلمة شديدة كانوا يستريحون ومشوا طويلا دون أن يجدوا النور . كانوا تعبين منهكين والبعض يقول:“ كان من الأفضل لي أن أبقى في البيت      أقدامي تؤلمني . أنا سأبقى هنا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071360" y="357120"/>
            <a:ext cx="65005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كان بطرس يشجعهم :“ لا بأس سنصل 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0" y="428760"/>
            <a:ext cx="450036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فرنسوا كان يعزف على المزمار قليلا وكانوا يتابعون السير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2214720"/>
            <a:ext cx="38574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وفي الليلة الباحثون عن النور وصلوا الى الجانب الآخر من الجبل وهناك ... هناك... كل شيء مده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892944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0" y="4500720"/>
            <a:ext cx="45003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ن النور يضيء كل شيء . يستطيعون الرؤية يستطيعون النظر الى بعضهم يعرفون بعضهم البع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3571920" y="4643280"/>
            <a:ext cx="307152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الألوان موجودة في كل مكان ومن كل جانب كان يصل باحثون آخرون عن النور . وحينئذ رقصوا كل ذلك النهار بفرح كبير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428760" y="357120"/>
            <a:ext cx="87148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في المساء , كل مجموعة أشعلت شمعة كب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ولكن فجأة  انقطعت الكهرباء توقفت الغسالة والغسيل المبلل بداخلها . الجارة أتت تطرق الباب وعندها أيضا انقطع التيار . كل الحي كان محروما من الكهرباء ما العمل 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مارتن وكارولين عادوا من المدرسة . مروا على اللحام قبل وصولهم الى البيت اللحام لم يكن مسرورا , لا يستطيع تقطيع اللحم ولا بد أن يستخدم الميز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يجب الأنتباه قبل قطع الشارع , الأشارة واقفة , شرطي يقوم بالعمل مكانها . عند الخباز شخص قال بأن هذا العطل سيدوم حتى منتصف اللي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الأم اصبحت عصبية المزاج مع كل العمل الواجب عمله اليوم . حقيقة لم يكن اليوم المناسب لا تستطيع حتى عمل فنجان قهوة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0"/>
            <a:ext cx="91436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لا يوجد تلفزيون ولا استعمال الأنترنيت ولا ألعاب كل شيء حز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عاد الأب من عمله وتناول طعامه بسرعة . الظلمة أصبحت في البيت . الأم اشعلت الشمعة الكبيرة ووضعتها على الأرض فأعطت ضوءا كبيرا يرق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جلس الأب على الديوان وجلست كارولين بالقرب منه ولعبتها معها . مارتن جلس على الأرض بالقرب من الشمعة وقالت الأم :“ لنذهب وننام باكرا ولو لمرة واحدة . مارتن:“ آه كلا أنا أريد أن أنظر الى الشم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4643280" y="0"/>
            <a:ext cx="450036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كارولين :“أبي أخبرنا قصة الأب :“ منذ زمن بعيد في الصباح لم تشرق الشمس ممكن انها كانت مريضة أو تعبة مارتن :“ كانت في أضراب ؟ أو أصابها مطل؟ الأب:“ ممكن لا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     نعلم ولكن كان هناك ظلمة الليل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  <Words>446</Words>
  <Paragraphs>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20:20:44Z</dcterms:created>
  <dc:creator>Computer</dc:creator>
  <dc:description/>
  <dc:language>en-US</dc:language>
  <cp:lastModifiedBy>Computer</cp:lastModifiedBy>
  <dcterms:modified xsi:type="dcterms:W3CDTF">2013-11-02T05:47:26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8</vt:r8>
  </property>
</Properties>
</file>